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86D0-3E36-4E75-9941-1F929A950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нятно что еще не все заделано на этом слайде вы видите то что сейчас находится в разработке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C02-E050-416A-A7A9-DB50BCC5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702-5102-4CA9-BB26-23227BBA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5D9-4E7F-4B3B-8875-AE9E8598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357-DA8B-4ECE-843A-1BA858BF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2BAF-D46D-416D-81ED-3D7BB390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9DB-7E7B-49FF-8F7F-93D1E3F3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E9E-010F-4D91-8206-E1A8F728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22A3-A89D-4E02-B470-57CDA8D4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5AE-66B3-404A-94C7-019C7660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F56-39C7-4297-954B-E45E155E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B7E-79C2-4AAC-96F5-D89903B5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233-4D84-4E25-A192-4145C112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177E-AAA6-4D6A-A1B2-E95A75D002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5200" y="151920"/>
            <a:ext cx="8569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РХИТЕКТУРА КОМПИЛЯТОР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calABC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8680" y="1904760"/>
            <a:ext cx="8358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лазов Н.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качук А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ый руководитель: доц. Михалкович С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Южный Федеральный Университе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Г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ультет математики, механики и компьютерных на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федра алгебры и дискретной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Ростов-на-Д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7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межуточн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форма хранения программы –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антическое дерево сериализуется на диск в бинарный форма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PC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(Pascal Compiled U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модуль сериализуется в отдельны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десериализации в дерево восстанавливается лишь час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файла, используемого в програм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а компиляции с использование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65320" y="2819520"/>
            <a:ext cx="1962000" cy="62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нтакс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54160" y="3657600"/>
            <a:ext cx="1981080" cy="53352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вер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54160" y="4419720"/>
            <a:ext cx="19810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антическо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8" idx="0"/>
          </p:cNvCxnSpPr>
          <p:nvPr/>
        </p:nvCxnSpPr>
        <p:spPr>
          <a:xfrm flipH="1">
            <a:off x="2144520" y="3440160"/>
            <a:ext cx="2160" cy="20232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8" idx="2"/>
            <a:endCxn id="239" idx="0"/>
          </p:cNvCxnSpPr>
          <p:nvPr/>
        </p:nvCxnSpPr>
        <p:spPr>
          <a:xfrm>
            <a:off x="2144520" y="4206600"/>
            <a:ext cx="1080" cy="21348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143000" y="1981080"/>
            <a:ext cx="1981080" cy="6098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2" idx="2"/>
            <a:endCxn id="237" idx="0"/>
          </p:cNvCxnSpPr>
          <p:nvPr/>
        </p:nvCxnSpPr>
        <p:spPr>
          <a:xfrm>
            <a:off x="2133360" y="2604960"/>
            <a:ext cx="13320" cy="21528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1143000" y="5181480"/>
            <a:ext cx="1981080" cy="53352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нератор к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/>
          <p:nvPr/>
        </p:nvCxnSpPr>
        <p:spPr>
          <a:xfrm>
            <a:off x="2514240" y="4952520"/>
            <a:ext cx="1080" cy="2134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143000" y="5943600"/>
            <a:ext cx="1981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/>
          <p:nvPr/>
        </p:nvCxnSpPr>
        <p:spPr>
          <a:xfrm>
            <a:off x="2514240" y="5714640"/>
            <a:ext cx="1080" cy="2134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1143000" y="1219320"/>
            <a:ext cx="19810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а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"/>
          <p:cNvCxnSpPr>
            <a:stCxn id="248" idx="2"/>
            <a:endCxn id="242" idx="0"/>
          </p:cNvCxnSpPr>
          <p:nvPr/>
        </p:nvCxnSpPr>
        <p:spPr>
          <a:xfrm>
            <a:off x="2133360" y="1752480"/>
            <a:ext cx="1080" cy="21528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3581280" y="4419720"/>
            <a:ext cx="2210040" cy="5331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U Reader/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4419720"/>
            <a:ext cx="2209680" cy="5331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йл 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50" idx="1"/>
            <a:endCxn id="239" idx="3"/>
          </p:cNvCxnSpPr>
          <p:nvPr/>
        </p:nvCxnSpPr>
        <p:spPr>
          <a:xfrm flipH="1">
            <a:off x="3134520" y="4686120"/>
            <a:ext cx="430920" cy="1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1" idx="1"/>
            <a:endCxn id="250" idx="3"/>
          </p:cNvCxnSpPr>
          <p:nvPr/>
        </p:nvCxnSpPr>
        <p:spPr>
          <a:xfrm flipH="1">
            <a:off x="5806800" y="4686120"/>
            <a:ext cx="349920" cy="1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4" name=""/>
          <p:cNvCxnSpPr/>
          <p:nvPr/>
        </p:nvCxnSpPr>
        <p:spPr>
          <a:xfrm flipV="1" rot="16200000">
            <a:off x="3651480" y="3357720"/>
            <a:ext cx="480240" cy="1536120"/>
          </a:xfrm>
          <a:prstGeom prst="bentConnector2">
            <a:avLst/>
          </a:prstGeom>
          <a:ln w="34920">
            <a:solidFill>
              <a:srgbClr val="0066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255" name=""/>
          <p:cNvCxnSpPr/>
          <p:nvPr/>
        </p:nvCxnSpPr>
        <p:spPr>
          <a:xfrm>
            <a:off x="2133360" y="4952520"/>
            <a:ext cx="1080" cy="21348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56" name=""/>
          <p:cNvCxnSpPr/>
          <p:nvPr/>
        </p:nvCxnSpPr>
        <p:spPr>
          <a:xfrm>
            <a:off x="2133360" y="5714640"/>
            <a:ext cx="1080" cy="21348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рость работы различных частей компиля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133720" y="1523880"/>
          <a:ext cx="520992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20992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32920" y="4114800"/>
            <a:ext cx="19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вертор в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мантическое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нератор кода из семантического дер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2280" y="3124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с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705720" y="35053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50292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7400"/>
            <a:ext cx="3733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рианты использования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скорение компиля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Оптим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зирующие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пре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Распараллели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ерация текста программы на другом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качества к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зуализация кода (генера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диаграмм класс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тформ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NET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стики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I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ediate Languag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ссплатформ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ктная ориентирова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ая скорость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остота генерации кода в сравнении с генерацией машинного к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блиотек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42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mon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il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rastructur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ресурс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едоставляющих поддержку реализации компилято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угих языковых инструментов дл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в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te Representatio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ерархию классов, представляющих конструкции яз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тител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Visitors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классов, реализующих последовательный перев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оуровневую библиотеку для генера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а использована при реализации компилятора языка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ZONNON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– наследника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BE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Йорг Гуткнех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гений Зуе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едостаток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иблиоте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закрытой разработкой фир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струментарий для генераци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да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calABC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4981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блиотек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lection.E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стандартной библиотек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воляет генериров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д, не зная формат файла сборк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озволяет генерировать отладочную информ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Высокая производительность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ы при генераци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я глобальных под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Вложенные описания подпрограмм и доступ к нелокальным переменным в языке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Различие концепций массивов в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ascal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ация интерфейса доступа к сущностям в сборка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Упаковка и распаковка ти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ие быстродействия поиска сущностей в сборках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генератор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560" y="2923920"/>
            <a:ext cx="8893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LConver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ует интерфейс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emanticVis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LConverter : ISemanticVisito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ff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3333ff"/>
                </a:solidFill>
                <a:latin typeface="Courier New"/>
              </a:rPr>
              <a:t>oi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visit(IIfNode value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3333ff"/>
                </a:solidFill>
                <a:latin typeface="Courier New"/>
              </a:rPr>
              <a:t>voi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visit(IWhileNode value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3333ff"/>
                </a:solidFill>
                <a:latin typeface="Courier New"/>
              </a:rPr>
              <a:t>voi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visit(IRepeatNode value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3333ff"/>
                </a:solidFill>
                <a:latin typeface="Courier New"/>
              </a:rPr>
              <a:t>voi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visit(IForNode value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3333ff"/>
                </a:solidFill>
                <a:latin typeface="Courier New"/>
              </a:rPr>
              <a:t>voi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visit(IStatementsListNode value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........................................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1484280"/>
            <a:ext cx="22338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мант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48000" y="1484280"/>
            <a:ext cx="2233800" cy="7923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то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Generator.dl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299280" y="1484280"/>
            <a:ext cx="2087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борка 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xe/dll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78" idx="3"/>
            <a:endCxn id="279" idx="1"/>
          </p:cNvCxnSpPr>
          <p:nvPr/>
        </p:nvCxnSpPr>
        <p:spPr>
          <a:xfrm>
            <a:off x="2628720" y="1881000"/>
            <a:ext cx="7038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9" idx="3"/>
            <a:endCxn id="280" idx="1"/>
          </p:cNvCxnSpPr>
          <p:nvPr/>
        </p:nvCxnSpPr>
        <p:spPr>
          <a:xfrm>
            <a:off x="5597280" y="1881000"/>
            <a:ext cx="702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5148360" y="2276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on.E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изация перевода конструкц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2808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Courier New"/>
              </a:rPr>
              <a:t>var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i 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f : boolea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i := 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i &lt; 10 </a:t>
            </a:r>
            <a:r>
              <a:rPr b="1" lang="ru-RU" sz="1600" spc="-1" strike="noStrike">
                <a:solidFill>
                  <a:srgbClr val="3333ff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f :=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3333ff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f := fals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Courier New"/>
              </a:rPr>
              <a:t>end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3681360"/>
            <a:ext cx="4537080" cy="31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.method public static 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Main(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IL_0000: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ldc.i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IL_0001: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stsfld    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IL</a:t>
            </a:r>
            <a:r>
              <a:rPr b="1" lang="en-US" sz="14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0006: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ldsfld    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IL_000b: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ldc.i4.s 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IL_000d: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bge        IL_001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IL_0012: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ldc.i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IL_0013: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stsfld    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IL_0018: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br         IL_0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IL_001d: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ldc.i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IL_001e: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stsfld    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Courier New"/>
              </a:rPr>
              <a:t>IL_0023: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  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52480" y="32004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1219320"/>
            <a:ext cx="0" cy="541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1066680"/>
            <a:ext cx="5181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3333ff"/>
                </a:solidFill>
                <a:latin typeface="Courier New"/>
              </a:rPr>
              <a:t>public override vo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visit(SemanticTree.</a:t>
            </a:r>
            <a:r>
              <a:rPr b="1" sz="1600" spc="-1" strike="noStrike">
                <a:solidFill>
                  <a:srgbClr val="009999"/>
                </a:solidFill>
                <a:latin typeface="Courier New"/>
              </a:rPr>
              <a:t>IIfNode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(save_debug_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MarkSequencePoint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l,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value.Locati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9999"/>
                </a:solidFill>
                <a:latin typeface="Courier New"/>
              </a:rPr>
              <a:t>Label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FalseLabel, EndLabe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FalseLabel = il.DefineLabe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EndLabel = il.DefineLabe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onvertExpression(</a:t>
            </a:r>
            <a:r>
              <a:rPr b="1" sz="1600" spc="-1" strike="noStrike">
                <a:solidFill>
                  <a:srgbClr val="008000"/>
                </a:solidFill>
                <a:latin typeface="Courier New"/>
              </a:rPr>
              <a:t>value.condition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)</a:t>
            </a:r>
            <a:r>
              <a:rPr b="1" sz="16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l.Emit(</a:t>
            </a:r>
            <a:r>
              <a:rPr b="1" sz="1600" spc="-1" strike="noStrike">
                <a:solidFill>
                  <a:srgbClr val="009999"/>
                </a:solidFill>
                <a:latin typeface="Courier New"/>
              </a:rPr>
              <a:t>OpCodes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.Brfalse, FalseLabe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8000"/>
                </a:solidFill>
                <a:latin typeface="Courier New"/>
              </a:rPr>
              <a:t>ConvertStatement(value.then_bod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l.Emit(</a:t>
            </a:r>
            <a:r>
              <a:rPr b="1" sz="1600" spc="-1" strike="noStrike">
                <a:solidFill>
                  <a:srgbClr val="009999"/>
                </a:solidFill>
                <a:latin typeface="Courier New"/>
              </a:rPr>
              <a:t>OpCodes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.Br, EndLabe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l.MarkLabel(FalseLabe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value.else_body != </a:t>
            </a:r>
            <a:r>
              <a:rPr b="1" sz="1600" spc="-1" strike="noStrike">
                <a:solidFill>
                  <a:srgbClr val="3333ff"/>
                </a:solidFill>
                <a:latin typeface="Courier New"/>
              </a:rPr>
              <a:t>null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600" spc="-1" strike="noStrike">
                <a:solidFill>
                  <a:srgbClr val="008000"/>
                </a:solidFill>
                <a:latin typeface="Courier New"/>
              </a:rPr>
              <a:t>ConvertStatement(value.else_bod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l.MarkLabel(EndLabe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тивировка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программирования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ascal A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мая для начального обучения на мехмате ЮФУ, имеет ряд недостатков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а) является интерпретаторо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б) содержит малое количество библиоте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ый кандидат на среду для обучения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o Delphi.NE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ая профессиональная среда с громоздкой оболочк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возможностей оптимизирующих и распараллеливающих преобразований по семантическому дере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зык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calABC.NET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 сдел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963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управляющие конструкции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epea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brea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ные типы данных: byte, cha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int, integ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uint6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eal, char, string, 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Запис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ез вари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Масси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т.ч. многоме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Указа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т.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вложенные процедуры и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Перегру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мен процедур и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Перегрузка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ие массивы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nteg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Моду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как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упрощенный синтаксис модуле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scal A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Класс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овый – клас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методов как внутри, так и вне класс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scal A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Насле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Полиморф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ботка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исключ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xcep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inall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овые фай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функций из неуправляемых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енности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838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ие методов внутри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523880"/>
            <a:ext cx="7239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oint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x,y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procedure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SetX(x: integ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beg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self.x :=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etY(y: integ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oint.SetY(y: integ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beg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elf.y :=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енности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838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ощенны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пол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интаксис моду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600200"/>
            <a:ext cx="2438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ni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e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76920" y="1600200"/>
            <a:ext cx="24382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ni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e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e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енности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838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ция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1523880"/>
            <a:ext cx="7238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oint 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x,y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constructor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(x,y: integ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lf.x :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lf.y :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p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Poi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:=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new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Point(1,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 := Point.Create(2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енности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838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грузка опер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15238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tudent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function operator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&lt;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(left, right: Student): boolean;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static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esult := left.Height &lt; right.Heig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енности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8380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дуры с переменным числом парам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2438280"/>
            <a:ext cx="7239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riteln (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param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rg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rray o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bjec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: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:= 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rgs.length-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nsole.Write(args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nsole.WriteLi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рективы компиля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1143000"/>
            <a:ext cx="0" cy="541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2438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#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apptype 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#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reference 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'System.Windows.Forms.dll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ystem.Windows.For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pplication.Run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or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419720" y="3657600"/>
            <a:ext cx="4419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4343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uses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VC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pplication.Run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or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95680" y="990720"/>
            <a:ext cx="46483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uni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#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apptype 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win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#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reference 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'System.Windows.Forms.dll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Form = System.Windows.Forms.For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pplication 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ystem.Windows.Forms.Applic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енности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2280" y="8380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ерации += -= для процедурных п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1905120"/>
            <a:ext cx="40384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riteln(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riteln('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p += p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p += p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11320" y="2932200"/>
            <a:ext cx="3432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работы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удущее расширение языка: неуправляемые шабло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Adder = class&lt;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dd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aram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rgs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rray of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: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ult := args[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:=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rgs.Length-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result := result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args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IntAdder = Adder&lt;integer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StringAdder = Adder&lt;string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riteln( IntAdder.Add(1,2,3,4,5,6,7,8,9)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riteln( StringAdder.Add('str1 ','str2 ','str3 ','str4 ','str5')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улировка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945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ть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язык программирования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ascalABC.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яв за основ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Pasca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обавив в него возможности, предоставляемые платформ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ть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омпилятор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ascalABC.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генерацией кода под платформу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ть оболочку, взяв в качестве прототипа оболочк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cal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ее представление компилятора должно обеспечивать максимальную масштабируемост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возможность добавлять новые языки программирования, разрабатывая для них парсер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возможность манипулировать семантическим деревом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разработ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изированные фай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процес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иляция в 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Неуправляемые шаб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Управляемые шаб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Подсказка по то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правления развит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лельность в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араллеливание программ по семантическому дере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серы новых языков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ерация кода по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ад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11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сть компилятор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calABC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11048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Arial"/>
              </a:rPr>
              <a:t>Сравнение скорост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компиляции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PascalABC.NET </a:t>
            </a:r>
            <a:r>
              <a:rPr b="0" lang="ru-RU" sz="2400" spc="-1" strike="noStrike">
                <a:solidFill>
                  <a:srgbClr val="339933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Turbo Delphi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77960" y="2054160"/>
          <a:ext cx="6413400" cy="386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2054160"/>
                    <a:ext cx="641340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1905120" y="2065320"/>
          <a:ext cx="5333760" cy="411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65320"/>
                    <a:ext cx="533376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сть компилятор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calABC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0825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Arial"/>
              </a:rPr>
              <a:t>Сравнение скорост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ыполнения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PascalABC.NET</a:t>
            </a:r>
            <a:r>
              <a:rPr b="0" lang="ru-RU" sz="2400" spc="-1" strike="noStrike">
                <a:solidFill>
                  <a:srgbClr val="339933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Turbo Delphi.NET</a:t>
            </a:r>
            <a:r>
              <a:rPr b="0" lang="ru-RU" sz="2400" spc="-1" strike="noStrike">
                <a:solidFill>
                  <a:srgbClr val="339933"/>
                </a:solidFill>
                <a:latin typeface="Arial"/>
              </a:rPr>
              <a:t> и С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666520" y="151920"/>
            <a:ext cx="4038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йт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pascalabc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04920" y="1143000"/>
          <a:ext cx="8610480" cy="53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610480" cy="53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3510000"/>
            <a:ext cx="2341440" cy="757080"/>
          </a:xfrm>
          <a:prstGeom prst="rect">
            <a:avLst/>
          </a:prstGeom>
          <a:solidFill>
            <a:srgbClr val="d1fbd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троллер парс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ilerTools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53080" y="152280"/>
            <a:ext cx="72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компилятор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ABC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2428920"/>
            <a:ext cx="1873080" cy="790560"/>
          </a:xfrm>
          <a:prstGeom prst="rect">
            <a:avLst/>
          </a:prstGeom>
          <a:solidFill>
            <a:srgbClr val="d1fbd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нтаксическое дере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ntaxTre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2428920"/>
            <a:ext cx="1871640" cy="792000"/>
          </a:xfrm>
          <a:prstGeom prst="rect">
            <a:avLst/>
          </a:prstGeom>
          <a:solidFill>
            <a:srgbClr val="ffd8bd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антическое дере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manticTre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3505320"/>
            <a:ext cx="2395440" cy="1752480"/>
          </a:xfrm>
          <a:prstGeom prst="rect">
            <a:avLst/>
          </a:prstGeom>
          <a:solidFill>
            <a:srgbClr val="79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нератор к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платформы 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TGenerator.d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960" y="4495680"/>
            <a:ext cx="2016360" cy="762120"/>
          </a:xfrm>
          <a:prstGeom prst="rect">
            <a:avLst/>
          </a:prstGeom>
          <a:solidFill>
            <a:srgbClr val="d1fbd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сер я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calABC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scalABCParser.dll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510000"/>
            <a:ext cx="3240000" cy="2879640"/>
          </a:xfrm>
          <a:prstGeom prst="rect">
            <a:avLst/>
          </a:prstGeom>
          <a:solidFill>
            <a:srgbClr val="ffd8bd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вертор синтаксиче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а в семантическ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eeConverter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094360"/>
            <a:ext cx="1800000" cy="360360"/>
          </a:xfrm>
          <a:prstGeom prst="rect">
            <a:avLst/>
          </a:prstGeom>
          <a:solidFill>
            <a:srgbClr val="ffd8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4373640"/>
            <a:ext cx="1800000" cy="503280"/>
          </a:xfrm>
          <a:prstGeom prst="rect">
            <a:avLst/>
          </a:prstGeom>
          <a:solidFill>
            <a:srgbClr val="ffd8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вертор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5668920"/>
            <a:ext cx="1635120" cy="576360"/>
          </a:xfrm>
          <a:prstGeom prst="rect">
            <a:avLst/>
          </a:prstGeom>
          <a:solidFill>
            <a:srgbClr val="d1fbd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блиц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мволов(Т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5668920"/>
            <a:ext cx="1008000" cy="574560"/>
          </a:xfrm>
          <a:prstGeom prst="rect">
            <a:avLst/>
          </a:prstGeom>
          <a:solidFill>
            <a:srgbClr val="ffd8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ступ к .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73120" y="1905120"/>
            <a:ext cx="889200" cy="1604880"/>
          </a:xfrm>
          <a:custGeom>
            <a:avLst/>
            <a:gdLst/>
            <a:ahLst/>
            <a:rect l="l" t="t" r="r" b="b"/>
            <a:pathLst>
              <a:path w="917" h="1226">
                <a:moveTo>
                  <a:pt x="917" y="0"/>
                </a:moveTo>
                <a:lnTo>
                  <a:pt x="0" y="1"/>
                </a:lnTo>
                <a:lnTo>
                  <a:pt x="3" y="12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3220920"/>
            <a:ext cx="0" cy="2732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067280" y="545292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4876920"/>
            <a:ext cx="0" cy="217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6477120"/>
            <a:ext cx="1368360" cy="264960"/>
          </a:xfrm>
          <a:prstGeom prst="rect">
            <a:avLst/>
          </a:prstGeom>
          <a:solidFill>
            <a:srgbClr val="d1fb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качук А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6477120"/>
            <a:ext cx="1439640" cy="244440"/>
          </a:xfrm>
          <a:prstGeom prst="rect">
            <a:avLst/>
          </a:prstGeom>
          <a:solidFill>
            <a:srgbClr val="ffd8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одолазов Н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6477120"/>
            <a:ext cx="1368360" cy="263520"/>
          </a:xfrm>
          <a:prstGeom prst="rect">
            <a:avLst/>
          </a:prstGeom>
          <a:solidFill>
            <a:srgbClr val="7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щая часть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4267080"/>
            <a:ext cx="255600" cy="609840"/>
          </a:xfrm>
          <a:custGeom>
            <a:avLst/>
            <a:gdLst/>
            <a:ahLst/>
            <a:rect l="l" t="t" r="r" b="b"/>
            <a:pathLst>
              <a:path w="182" h="817">
                <a:moveTo>
                  <a:pt x="0" y="817"/>
                </a:moveTo>
                <a:lnTo>
                  <a:pt x="181" y="814"/>
                </a:lnTo>
                <a:lnTo>
                  <a:pt x="182" y="0"/>
                </a:lnTo>
              </a:path>
            </a:pathLst>
          </a:custGeom>
          <a:noFill/>
          <a:ln w="316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3220920"/>
            <a:ext cx="0" cy="2732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6000" y="3220920"/>
            <a:ext cx="0" cy="2732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3220920"/>
            <a:ext cx="0" cy="2732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292720" y="545292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838080"/>
            <a:ext cx="4398840" cy="1371600"/>
          </a:xfrm>
          <a:prstGeom prst="rect">
            <a:avLst/>
          </a:prstGeom>
          <a:solidFill>
            <a:srgbClr val="d1fbd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вляющий бл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iler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1371600"/>
            <a:ext cx="1360440" cy="720720"/>
          </a:xfrm>
          <a:prstGeom prst="rect">
            <a:avLst/>
          </a:prstGeom>
          <a:solidFill>
            <a:srgbClr val="d1fbd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лгоритм компиляции моду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500000" y="2209680"/>
            <a:ext cx="83880" cy="1271880"/>
          </a:xfrm>
          <a:custGeom>
            <a:avLst/>
            <a:gdLst/>
            <a:ahLst/>
            <a:rect l="l" t="t" r="r" b="b"/>
            <a:pathLst>
              <a:path w="1" h="794">
                <a:moveTo>
                  <a:pt x="0" y="0"/>
                </a:moveTo>
                <a:lnTo>
                  <a:pt x="0" y="7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781680" y="1905120"/>
            <a:ext cx="959040" cy="1604880"/>
          </a:xfrm>
          <a:custGeom>
            <a:avLst/>
            <a:gdLst/>
            <a:ahLst/>
            <a:rect l="l" t="t" r="r" b="b"/>
            <a:pathLst>
              <a:path w="917" h="1226">
                <a:moveTo>
                  <a:pt x="917" y="0"/>
                </a:moveTo>
                <a:lnTo>
                  <a:pt x="0" y="1"/>
                </a:lnTo>
                <a:lnTo>
                  <a:pt x="3" y="12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1520" y="838080"/>
            <a:ext cx="1568160" cy="76212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сольная обол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BCNE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838080"/>
            <a:ext cx="1752840" cy="7621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зуальная обол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scalABCNE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905120" y="121932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1371600"/>
            <a:ext cx="1295280" cy="720720"/>
          </a:xfrm>
          <a:prstGeom prst="rect">
            <a:avLst/>
          </a:prstGeom>
          <a:solidFill>
            <a:srgbClr val="d1fbd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нтроль ошиб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1295280"/>
            <a:ext cx="60984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1371600"/>
            <a:ext cx="1295280" cy="720720"/>
          </a:xfrm>
          <a:prstGeom prst="rect">
            <a:avLst/>
          </a:prstGeom>
          <a:solidFill>
            <a:srgbClr val="d1fbd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/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cal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mpiled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t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нератор парсера: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GOL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Builder</a:t>
            </a:r>
            <a:br>
              <a:rPr sz="4400"/>
            </a:b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ammar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iented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nguage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loper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devincook.com/GOLDParse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 грамматик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LALR (LookAhead Left Recur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81952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иваемые язы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SI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C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sual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l .NET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3510000"/>
            <a:ext cx="2341440" cy="757080"/>
          </a:xfrm>
          <a:prstGeom prst="rect">
            <a:avLst/>
          </a:prstGeom>
          <a:solidFill>
            <a:srgbClr val="d1fbd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троллер парс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ilerTools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53080" y="152280"/>
            <a:ext cx="72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компилятор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ABC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2428920"/>
            <a:ext cx="1982880" cy="790560"/>
          </a:xfrm>
          <a:prstGeom prst="rect">
            <a:avLst/>
          </a:prstGeom>
          <a:solidFill>
            <a:srgbClr val="d1fbd2"/>
          </a:solidFill>
          <a:ln w="88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нтаксическое дере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ntaxTre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2428920"/>
            <a:ext cx="1982880" cy="792000"/>
          </a:xfrm>
          <a:prstGeom prst="rect">
            <a:avLst/>
          </a:prstGeom>
          <a:solidFill>
            <a:srgbClr val="ffd8bd"/>
          </a:solidFill>
          <a:ln w="88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антическое дере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manticTre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3505320"/>
            <a:ext cx="2395440" cy="1752480"/>
          </a:xfrm>
          <a:prstGeom prst="rect">
            <a:avLst/>
          </a:prstGeom>
          <a:solidFill>
            <a:srgbClr val="79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нератор к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платформы 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TGenerator.d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960" y="4495680"/>
            <a:ext cx="2016360" cy="762120"/>
          </a:xfrm>
          <a:prstGeom prst="rect">
            <a:avLst/>
          </a:prstGeom>
          <a:solidFill>
            <a:srgbClr val="d1fbd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сер язы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calABC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scalABCParser.dll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3510000"/>
            <a:ext cx="3240000" cy="2879640"/>
          </a:xfrm>
          <a:prstGeom prst="rect">
            <a:avLst/>
          </a:prstGeom>
          <a:solidFill>
            <a:srgbClr val="ffd8bd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вертор синтаксиче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а в семантическ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eeConverter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5094360"/>
            <a:ext cx="1800000" cy="360360"/>
          </a:xfrm>
          <a:prstGeom prst="rect">
            <a:avLst/>
          </a:prstGeom>
          <a:solidFill>
            <a:srgbClr val="ffd8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4373640"/>
            <a:ext cx="1800000" cy="503280"/>
          </a:xfrm>
          <a:prstGeom prst="rect">
            <a:avLst/>
          </a:prstGeom>
          <a:solidFill>
            <a:srgbClr val="ffd8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вертор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5668920"/>
            <a:ext cx="1635120" cy="576360"/>
          </a:xfrm>
          <a:prstGeom prst="rect">
            <a:avLst/>
          </a:prstGeom>
          <a:solidFill>
            <a:srgbClr val="d1fbd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блиц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мволов(Т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5668920"/>
            <a:ext cx="1008000" cy="574560"/>
          </a:xfrm>
          <a:prstGeom prst="rect">
            <a:avLst/>
          </a:prstGeom>
          <a:solidFill>
            <a:srgbClr val="ffd8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ступ к .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3120" y="1905120"/>
            <a:ext cx="889200" cy="1604880"/>
          </a:xfrm>
          <a:custGeom>
            <a:avLst/>
            <a:gdLst/>
            <a:ahLst/>
            <a:rect l="l" t="t" r="r" b="b"/>
            <a:pathLst>
              <a:path w="917" h="1226">
                <a:moveTo>
                  <a:pt x="917" y="0"/>
                </a:moveTo>
                <a:lnTo>
                  <a:pt x="0" y="1"/>
                </a:lnTo>
                <a:lnTo>
                  <a:pt x="3" y="12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3220920"/>
            <a:ext cx="0" cy="2732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7280" y="545292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16360" y="4876920"/>
            <a:ext cx="0" cy="217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6477120"/>
            <a:ext cx="1368360" cy="264960"/>
          </a:xfrm>
          <a:prstGeom prst="rect">
            <a:avLst/>
          </a:prstGeom>
          <a:solidFill>
            <a:srgbClr val="d1fb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качук А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6477120"/>
            <a:ext cx="1439640" cy="244440"/>
          </a:xfrm>
          <a:prstGeom prst="rect">
            <a:avLst/>
          </a:prstGeom>
          <a:solidFill>
            <a:srgbClr val="ffd8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одолазов Н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4360" y="6477120"/>
            <a:ext cx="1368360" cy="263520"/>
          </a:xfrm>
          <a:prstGeom prst="rect">
            <a:avLst/>
          </a:prstGeom>
          <a:solidFill>
            <a:srgbClr val="7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щая часть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11280" y="4267080"/>
            <a:ext cx="255600" cy="609840"/>
          </a:xfrm>
          <a:custGeom>
            <a:avLst/>
            <a:gdLst/>
            <a:ahLst/>
            <a:rect l="l" t="t" r="r" b="b"/>
            <a:pathLst>
              <a:path w="182" h="817">
                <a:moveTo>
                  <a:pt x="0" y="817"/>
                </a:moveTo>
                <a:lnTo>
                  <a:pt x="181" y="814"/>
                </a:lnTo>
                <a:lnTo>
                  <a:pt x="182" y="0"/>
                </a:lnTo>
              </a:path>
            </a:pathLst>
          </a:custGeom>
          <a:noFill/>
          <a:ln w="316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3220920"/>
            <a:ext cx="0" cy="2732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3220920"/>
            <a:ext cx="0" cy="2732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220920"/>
            <a:ext cx="0" cy="2732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292720" y="545292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838080"/>
            <a:ext cx="4398840" cy="1371600"/>
          </a:xfrm>
          <a:prstGeom prst="rect">
            <a:avLst/>
          </a:prstGeom>
          <a:solidFill>
            <a:srgbClr val="d1fbd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вляющий бл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iler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1371600"/>
            <a:ext cx="1360440" cy="720720"/>
          </a:xfrm>
          <a:prstGeom prst="rect">
            <a:avLst/>
          </a:prstGeom>
          <a:solidFill>
            <a:srgbClr val="d1fbd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лгоритм компиляции моду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00000" y="2209680"/>
            <a:ext cx="83880" cy="1271880"/>
          </a:xfrm>
          <a:custGeom>
            <a:avLst/>
            <a:gdLst/>
            <a:ahLst/>
            <a:rect l="l" t="t" r="r" b="b"/>
            <a:pathLst>
              <a:path w="1" h="794">
                <a:moveTo>
                  <a:pt x="0" y="0"/>
                </a:moveTo>
                <a:lnTo>
                  <a:pt x="0" y="7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781680" y="1905120"/>
            <a:ext cx="959040" cy="1604880"/>
          </a:xfrm>
          <a:custGeom>
            <a:avLst/>
            <a:gdLst/>
            <a:ahLst/>
            <a:rect l="l" t="t" r="r" b="b"/>
            <a:pathLst>
              <a:path w="917" h="1226">
                <a:moveTo>
                  <a:pt x="917" y="0"/>
                </a:moveTo>
                <a:lnTo>
                  <a:pt x="0" y="1"/>
                </a:lnTo>
                <a:lnTo>
                  <a:pt x="3" y="12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838080"/>
            <a:ext cx="1568160" cy="762120"/>
          </a:xfrm>
          <a:prstGeom prst="rect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сольная обол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BCNE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838080"/>
            <a:ext cx="1752840" cy="7621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зуальная обол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scalABCNE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905120" y="121932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1371600"/>
            <a:ext cx="1295280" cy="720720"/>
          </a:xfrm>
          <a:prstGeom prst="rect">
            <a:avLst/>
          </a:prstGeom>
          <a:solidFill>
            <a:srgbClr val="d1fbd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нтроль ошиб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1295280"/>
            <a:ext cx="60984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1371600"/>
            <a:ext cx="1295280" cy="720720"/>
          </a:xfrm>
          <a:prstGeom prst="rect">
            <a:avLst/>
          </a:prstGeom>
          <a:solidFill>
            <a:srgbClr val="d1fbd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/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cal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mpiled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t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95880" y="1219320"/>
            <a:ext cx="2592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мантическое дерево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70 узл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1219320"/>
            <a:ext cx="2592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нтаксическое дерево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170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узлов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нтаксическое и семантическое дере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676520"/>
            <a:ext cx="2232000" cy="25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d: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=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1557360"/>
            <a:ext cx="115236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78200" y="184464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0560" y="2060640"/>
            <a:ext cx="1152360" cy="288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2920" y="2494080"/>
            <a:ext cx="1152360" cy="288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2494080"/>
            <a:ext cx="1152360" cy="288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346200" y="2349360"/>
            <a:ext cx="215640" cy="144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68720" y="2278080"/>
            <a:ext cx="214200" cy="21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2200" y="2925720"/>
            <a:ext cx="1297080" cy="432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770200" y="2781360"/>
            <a:ext cx="216000" cy="21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38560" y="3429000"/>
            <a:ext cx="115236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Var defs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8200" y="3860640"/>
            <a:ext cx="115236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2560" y="4292640"/>
            <a:ext cx="576360" cy="288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2560" y="4724280"/>
            <a:ext cx="57636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1840" y="3716280"/>
            <a:ext cx="144720" cy="576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70200" y="4294080"/>
            <a:ext cx="115236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intege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698920" y="3716280"/>
            <a:ext cx="7128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78200" y="4005360"/>
            <a:ext cx="0" cy="863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8200" y="486900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8200" y="443700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38560" y="5084640"/>
            <a:ext cx="115236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Var defs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8200" y="5516640"/>
            <a:ext cx="1152360" cy="288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2560" y="5948280"/>
            <a:ext cx="57636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6381720"/>
            <a:ext cx="57636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1840" y="5372280"/>
            <a:ext cx="144720" cy="57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4560" y="5948280"/>
            <a:ext cx="115272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intege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698920" y="5372280"/>
            <a:ext cx="7128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8200" y="5661000"/>
            <a:ext cx="0" cy="863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8200" y="652464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8200" y="609300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3213000"/>
            <a:ext cx="0" cy="2016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5280" y="5229360"/>
            <a:ext cx="503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3573360"/>
            <a:ext cx="503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38560" y="3068640"/>
            <a:ext cx="115272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s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7280" y="3502080"/>
            <a:ext cx="576000" cy="288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3502080"/>
            <a:ext cx="576000" cy="288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27640" y="3357720"/>
            <a:ext cx="7128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0920" y="3357720"/>
            <a:ext cx="7272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38560" y="3860640"/>
            <a:ext cx="115272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s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4294080"/>
            <a:ext cx="57600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294080"/>
            <a:ext cx="57600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427640" y="4149720"/>
            <a:ext cx="7128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30920" y="4149720"/>
            <a:ext cx="7272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2560" y="2709720"/>
            <a:ext cx="0" cy="1295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22560" y="4005360"/>
            <a:ext cx="216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22560" y="3213000"/>
            <a:ext cx="216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1557360"/>
            <a:ext cx="115272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916280"/>
            <a:ext cx="1152360" cy="288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372360" y="1773360"/>
            <a:ext cx="504720" cy="14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40360" y="2349360"/>
            <a:ext cx="115272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var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2781360"/>
            <a:ext cx="936720" cy="2872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: “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084360" y="2637000"/>
            <a:ext cx="7164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32720" y="2781360"/>
            <a:ext cx="720720" cy="288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4000" y="2637000"/>
            <a:ext cx="21600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3141720"/>
            <a:ext cx="1152720" cy="288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var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3573360"/>
            <a:ext cx="936360" cy="2872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: “b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012000" y="3429000"/>
            <a:ext cx="7128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59640" y="3573360"/>
            <a:ext cx="64908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30920" y="3429000"/>
            <a:ext cx="14616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4005360"/>
            <a:ext cx="1152720" cy="288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var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4437000"/>
            <a:ext cx="936360" cy="2872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: “c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012000" y="4292640"/>
            <a:ext cx="7128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4437000"/>
            <a:ext cx="64908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30920" y="4292640"/>
            <a:ext cx="14616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6000" y="4869000"/>
            <a:ext cx="1152360" cy="288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var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80000" y="5300640"/>
            <a:ext cx="936720" cy="2872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: “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940000" y="5156280"/>
            <a:ext cx="7164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88000" y="5300640"/>
            <a:ext cx="72072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5156280"/>
            <a:ext cx="14436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08720" y="2060640"/>
            <a:ext cx="0" cy="2952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8720" y="5013360"/>
            <a:ext cx="287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8720" y="4149720"/>
            <a:ext cx="3585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08720" y="3284640"/>
            <a:ext cx="3585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492280"/>
            <a:ext cx="431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85080" y="2060640"/>
            <a:ext cx="1152720" cy="288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812000" y="1773360"/>
            <a:ext cx="505080" cy="287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67640" y="2565360"/>
            <a:ext cx="115236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s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56720" y="3068640"/>
            <a:ext cx="100800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 const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459640" y="285264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207" idx="2"/>
            <a:endCxn id="176" idx="6"/>
          </p:cNvCxnSpPr>
          <p:nvPr/>
        </p:nvCxnSpPr>
        <p:spPr>
          <a:xfrm flipH="1" flipV="1">
            <a:off x="7108200" y="2493720"/>
            <a:ext cx="400680" cy="1008720"/>
          </a:xfrm>
          <a:prstGeom prst="curvedConnector5">
            <a:avLst>
              <a:gd name="adj1" fmla="val -15467"/>
              <a:gd name="adj2" fmla="val 49982"/>
              <a:gd name="adj3" fmla="val -15467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9036000" y="2205000"/>
            <a:ext cx="0" cy="1944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8820000" y="2708280"/>
            <a:ext cx="216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40720" y="4005360"/>
            <a:ext cx="1152360" cy="288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s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8892720" y="4149720"/>
            <a:ext cx="150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3" idx="5"/>
            <a:endCxn id="186" idx="6"/>
          </p:cNvCxnSpPr>
          <p:nvPr/>
        </p:nvCxnSpPr>
        <p:spPr>
          <a:xfrm flipV="1" rot="16200000">
            <a:off x="7635960" y="3548160"/>
            <a:ext cx="694440" cy="1896120"/>
          </a:xfrm>
          <a:prstGeom prst="curvedConnector5">
            <a:avLst>
              <a:gd name="adj1" fmla="val -52593"/>
              <a:gd name="adj2" fmla="val 37884"/>
              <a:gd name="adj3" fmla="val -52593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732720" y="5734080"/>
            <a:ext cx="1441440" cy="7920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Опреде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типа 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in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2924280"/>
            <a:ext cx="0" cy="2809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08720" y="3716280"/>
            <a:ext cx="142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08720" y="4581360"/>
            <a:ext cx="142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08720" y="5445000"/>
            <a:ext cx="142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17080" y="4581360"/>
            <a:ext cx="71892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_r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96360" y="4581360"/>
            <a:ext cx="649080" cy="289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_r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884720" y="4292640"/>
            <a:ext cx="71640" cy="28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604360" y="4292640"/>
            <a:ext cx="71280" cy="28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24720" y="3357720"/>
            <a:ext cx="649440" cy="288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_r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7812000" y="2852640"/>
            <a:ext cx="216000" cy="505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stCxn id="219" idx="1"/>
            <a:endCxn id="181" idx="6"/>
          </p:cNvCxnSpPr>
          <p:nvPr/>
        </p:nvCxnSpPr>
        <p:spPr>
          <a:xfrm flipV="1" rot="16200000">
            <a:off x="6701760" y="3618720"/>
            <a:ext cx="1323000" cy="656280"/>
          </a:xfrm>
          <a:prstGeom prst="curved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0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вертор в семантическое дере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1484280"/>
            <a:ext cx="22338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нтакс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48000" y="1484280"/>
            <a:ext cx="2233800" cy="7923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вер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eConvertor.dl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99280" y="1484280"/>
            <a:ext cx="2087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антическо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3"/>
            <a:endCxn id="226" idx="1"/>
          </p:cNvCxnSpPr>
          <p:nvPr/>
        </p:nvCxnSpPr>
        <p:spPr>
          <a:xfrm>
            <a:off x="2628720" y="1881000"/>
            <a:ext cx="703800" cy="1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6" idx="3"/>
            <a:endCxn id="227" idx="1"/>
          </p:cNvCxnSpPr>
          <p:nvPr/>
        </p:nvCxnSpPr>
        <p:spPr>
          <a:xfrm>
            <a:off x="5597280" y="1881000"/>
            <a:ext cx="702360" cy="1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289080" y="2627280"/>
            <a:ext cx="862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вертор содерж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титель синтаксического дер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у символ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ластей вид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выбора перегруженного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у явных и неявных преобразований тип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nstructor, конструирующий типы делегатов, массивов, классов, их полей, свойств и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ую библиотеку (стандартные типы, операции над ни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11160"/>
          <a:ext cx="9144000" cy="6846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160"/>
                    <a:ext cx="9144000" cy="68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rkStar</cp:lastModifiedBy>
  <dcterms:modified xsi:type="dcterms:W3CDTF">2007-04-04T18:01:29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